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EC-743B-43C7-9353-E259F3B9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CCC-68B7-4533-B7EF-EBFA9B6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F1A-9B21-4CFB-9042-52120F39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BBC-396A-4CE8-BA97-96FDE392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B3F-282B-40C2-ACE4-4524B535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AB9-4501-471D-AEAE-52F98B7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956-B717-43DE-BD4D-CB1A268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37C-EC17-4458-814D-F099A7DB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96B-B805-4654-9C05-928EA3E0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4C0-C130-4095-816D-D8AC793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C22-A4D7-4EFD-A97F-DCBD6F1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F1A-8EF5-451B-BAB9-013B2D4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0B6-E7AE-4466-8AFC-CE83AC64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Mitosis and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sis results in the production of 2 genetically identical diploid cells, whereas meiosis produces four genetically different haploid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Hunt Morgan 1910 studying fruit flies discovered that many genes are linked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at each chromosome is a group of 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odified Mendel’s law to say that chromosomes assort independently, not individual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rther apart the genes are on a chromosome the less likely they will b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1 Alfred Sturtevant believed that  the farther apart two genes where, the more likely they were to be separated by crossing over in mei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ate of separation and recombination could be used to create map of the distances between ge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81360" y="1866960"/>
            <a:ext cx="5292720" cy="3973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87600" y="2039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28209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0" y="3645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559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7600" y="5168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2120" y="17654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2120" y="2793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02120" y="3562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fra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2120" y="43815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02120" y="521964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otide base 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31840"/>
            <a:ext cx="64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rative Scale of a Gen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7440" y="1186200"/>
            <a:ext cx="208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Earth’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0480" y="1186200"/>
            <a:ext cx="3368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Cells, Chromosomes, and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2280" y="1919160"/>
            <a:ext cx="7194600" cy="359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6880" y="15620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 location on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40480" y="1562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31840"/>
            <a:ext cx="64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 Map of the Fruit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chromosomes are chromosomes with the same genes in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 that contains both sets of homologous chromosom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 that contains only one set of chromosom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loid or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where n is the number of chromosom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x cells or gametes are haploid. This way when the male and female gametes unit they form a diploid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osis is a process of reduction division in which the number of chromosomes per cell is cut in half through separation of homologous chromosomes in a diploid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ccurs in 2 divisions Meiosis I and Meiosis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meiosis I each chromosome is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phase I each chromosomes paired with its homologous chromosome forming a tetrad. It is at this time in which crossing over can occur (exchanging of genetic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n end of Meiosis I 2 cells are formed that are still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2473200"/>
            <a:ext cx="8182080" cy="238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1160" y="27144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Crossing over which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o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324480" y="48769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4320" y="5303880"/>
            <a:ext cx="302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meiotic division in which by the end there are 4 cells produced which are all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 meiosis results in 4 equal-sized gametes called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emales, only one large egg cell results from meiosis. The other three are polar bodies, usually not involved in re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76212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4513" r="0" b="15924"/>
          <a:stretch/>
        </p:blipFill>
        <p:spPr>
          <a:xfrm>
            <a:off x="227160" y="1960560"/>
            <a:ext cx="866916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49840" y="1393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50920" y="1181160"/>
            <a:ext cx="6746760" cy="368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68840" y="10177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3120" y="5114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iosis I results in two haploid (N) daughter cells, each with half the number of chromosomes as the origin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312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360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75320" y="48736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45320" y="4873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o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51148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hromosomes line up in a similar way to the metaphase stage of mitos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75320" y="51148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ister chromatids separate and move toward opposite ends of the ce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45320" y="511488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iosis II results in four haploid (N) daughter cel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6212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971800"/>
            <a:ext cx="8380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905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191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676520"/>
            <a:ext cx="9903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819520"/>
            <a:ext cx="9903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4038480"/>
            <a:ext cx="9903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181480"/>
            <a:ext cx="9903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23880" y="24379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91120" y="1981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5146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952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6960" y="179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97520" y="13352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1400" y="5830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6765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33:33Z</dcterms:created>
  <dc:creator>Perquimans County Schools</dc:creator>
  <dc:description/>
  <dc:language>en-US</dc:language>
  <cp:lastModifiedBy>Perquimans County Schools</cp:lastModifiedBy>
  <dcterms:modified xsi:type="dcterms:W3CDTF">2005-11-28T18:00:13Z</dcterms:modified>
  <cp:revision>3</cp:revision>
  <dc:subject/>
  <dc:title>Meiosis</dc:title>
</cp:coreProperties>
</file>